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762-81C8-4135-BFE1-0CCBF741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2F4-4FB7-4632-A5DB-A58E82F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D6A-8592-4F7F-8319-A50A5AD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746-3605-4E18-8F52-A34775FB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74F1-6B30-4297-8BE4-731331F9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40C-8FFC-4055-BFD1-55254133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9C9-297E-4442-B8B7-DA69B41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A31-5FC1-4AE1-A8A1-BCC7340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8D1-B8E3-42A7-A2FC-B890B317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B68B-46F4-433F-9694-9F10E07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1EFA-DBF5-40E2-A4E4-BA76F9A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33C-AB91-4700-B23A-DAF59CF9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274-8182-4B90-9EC4-8886BA4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B83D-5D8A-4956-8F1D-4B79A067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A36-3892-4B23-901F-2FDC8AB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F6CF-D0A4-4CF6-871A-D09C757A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220-143E-43A0-BF89-4ACD9D34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A3F6-6460-41BD-9944-3F6E16FB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9C19B-3503-424C-AAAE-D8AF53D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8AABB-DB9F-40DD-AF06-43D3C064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013E0-9C62-4D71-8306-9EE1E662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08B70-0712-456B-9102-0CB9BF0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B38-29C7-4E6D-89F3-02B7A50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4F9C1-C32A-4E23-9F1A-EA2ED98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D9D49-F49F-4B51-A8C7-C30545C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909BB-464B-4279-AFE0-AB9AAF0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FC01A-520D-47CE-9905-31BE14E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B2478-601D-4858-97BF-C53361D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E65D1-51BF-4467-BD48-7525E8A2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5166A-5300-40C7-86F2-148A92D3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27D21-044F-47B7-8A8E-CE895505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ECC0D-44CA-4E9F-9916-AFAD1BD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BF1CE-4B88-4470-83F9-1B282BC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E3E-CB61-4E8B-9188-6E3F879F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245DE-B81C-409E-9F6B-3C4CFF88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71D24-0372-4742-B1E8-3107E6F9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89F5B-F968-4654-A8D9-B2DA138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363BC-0159-4F2F-810D-3751C1A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8C904-E4F8-41A4-B7CB-BC44F0B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A67BB-F0CF-4127-AB55-03603E2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7A33A-E57A-4C57-8109-2647DA2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80669-8221-448C-8AC5-BDA74DB7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3B0F3-4AA9-4CC0-908F-F4A8BD29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6CF42-1CFB-461B-B786-C7AD25C8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A00-3E7F-41BE-AFFD-B8A1A779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9AA6D-49EB-4343-BAFB-94A18F00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05204-E947-41F7-89EC-6E0ED1C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0C976-43F5-4921-86CB-26295379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22973-9B0E-4B98-9B79-B39D0EF2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5FCD8-20EC-4450-88D9-A9505A6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B78AE-8DBB-43C9-AC1A-4AF6391D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060D4-FD15-4E38-8FA8-7662E00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E75C7-52B0-40A6-AA0B-1A5C4CB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ADF4D-3289-4E9E-8239-40785510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8CFDD-BCE7-4032-BB1A-9036ECE9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B7C-AD83-4095-97C4-18A9DAB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7FF55-AE3B-4199-A360-D2673E22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5AE1-4F5A-423E-A204-DAA5F276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23B1-26EF-492F-B5A0-4D05D7EF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CEBD-0769-4253-8768-3D2235A6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46AE4-AFFD-4F05-831B-9961A7C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1BEC-F5EC-4031-8D25-4A6C35F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A0FA-482F-4FD6-B294-16916A98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D058-C9F8-4397-AD41-83CC102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EBD7-6A5A-44E7-AA91-62D240F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8CA8-38B3-4DF3-AB86-67F45B4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72D-AE31-444F-910F-18B3A1C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E862-0D6E-4B98-A01F-155B4A22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1A381-24FB-465E-9E18-EDC3316A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7239-9E9E-476E-A700-531EEDC6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C3B34-4EC9-4CA8-BE9F-32A7D4C0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9B42F-9C45-4777-9C87-AB704BAE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9BB35-B028-493F-ADBC-2573B58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81EEF-669B-4201-AEC7-0201CA6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F2052-1597-4043-AED4-900F717F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DC34F-20C3-4DEE-AC21-DE8828CB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08B7D-CDF7-4A08-BB5E-79B96E5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D66-A8BF-47DD-BC0B-A3E2F9DB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426CD-7901-4AC2-87AF-0452FE1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40BFC-0000-4503-A1D5-74B3902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F39DC-8DDD-4F56-AF9C-02A8A78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EA166-EBB1-4167-BE4E-6DD8E60A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33883-D0D0-4EE6-AA3B-C0E98C08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1F73-8BFE-45C4-8EE0-A4545DD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64FD-AABF-4793-ABB1-0201489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B754-AB32-4212-8DBD-E44E66D8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4749-E45B-4BB7-BA1F-6E05D91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314C-A877-4C92-9C67-A02432F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4BE-C5BB-4EB1-931E-3CCDC37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7A81-95C1-48BD-883E-338EBDB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36C6-2296-455C-AB7D-9CC99CB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AB9E2-26DB-433E-9DBB-A81CA527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AF09-84DA-4D61-84EC-75B5978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1F1B-6B21-4D6D-BCA3-345F9E5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E4CFE-3F54-49BE-8D5B-0BB91D58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F81D-83A0-4E4D-A255-D78E8887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F804-CC6B-4B21-9A69-63BD8993CC3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1D4-5886-4A64-9E9B-35C7B90ECAD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4B0-C1EB-48A1-B540-1DA751F28B3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FD2-B6BB-4F73-A514-7C29E432FB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53C-AAE2-4015-BA95-65C42888233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9CA-36F2-4717-9E3B-33F443ED0B9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D436-6D15-4B8D-95E5-F40877BF77B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C03F-9D7E-4E24-8131-A67D83B3190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POETR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erms for the Journe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ten refers to the set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n though a poem is short, the audience should be able to identify where it takes place as well as time peri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on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tition of the same or similar vowe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rs especially in stressed syllab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o unify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distracting if used in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ter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tition of consonant sounds in consecutive or neighboring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ually found at the beginning of w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to enhance sound in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nomatopoe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ound of a word echoes its mea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Ba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ras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hi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 of the earliest and most primitive ways of enhancing sound in a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n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osed form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4 line poem with specific rhyme sch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akespearean Son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ree quatrains with concluding coup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ambic pentame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ab, cdcd, efef, g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e in first quatrain, develop in next two, finish in coup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nnet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trarchan Son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e octave and one sest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ambic pentame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ba, abba, cde, cd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ent problem in octave, resolve in sest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ll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ly made to be su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repeated words and phrases to advance s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rrative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at does this mean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ee Ver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identifiable rhyme or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odd breaks in 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still certain things that unify a poem – repeated words and appearances of words on the printed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hy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of matching sound patterns in two or more words:  “tight” and “might” or “sleep” and “deep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rhyme to b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perf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the final vowel and consonant patterns must be the sa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mperfect rhyme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rs when the final consonant sounds are the same but the vowel pattern is different:  “learn” and “barn” or “road” and “dead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common type of rhyme is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end rhym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where the final words of each line rhy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hy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gular occurrence of sou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ating of a heart, lapping of wa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hieved through balanced structure and regular rhyme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way words are set up on a page can help achieve certain rhyth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anz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oup of two or more lines with the same metrical pattern – and often with a regular rhyme scheme as well – separated by blank s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nctions like a paragraph – groups related id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ypes of Stanza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uplet – two line stanza with rhyming lines of similar length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train – four line stanza with rhyming lines of similar length and me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roic couplet – consists of two rhymed lines of iambic pentameter – there is a weak pause after the first line and a strong pause after the seco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o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e handou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currence of regular units of stressed and unstressed syllab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tres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or accent) occurs when one syllable is emphasized more than anot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. Basic, Illu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ders analyze meter by looking at the po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peak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ke other literature, there is a speaker in po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ften not the auth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aker is also called th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perso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a poem will have a speaker, but the author’s voice will shine through as w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ever assume that the author is naturally the poem’s speak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estions for finding the speak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old or you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ppy?  Sad?  Defiant?  Angry?  Dista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poem written in first person?  Second? Thir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– sometimes this will tell who the speaker 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isolated?  Without self control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speaker being blunt about what he / she has to s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02:01Z</dcterms:created>
  <dc:creator>Administrator</dc:creator>
  <dc:description/>
  <dc:language>en-US</dc:language>
  <cp:lastModifiedBy>Administrator</cp:lastModifiedBy>
  <dcterms:modified xsi:type="dcterms:W3CDTF">2011-12-01T14:18:32Z</dcterms:modified>
  <cp:revision>7</cp:revision>
  <dc:subject/>
  <dc:title>Poetry</dc:title>
</cp:coreProperties>
</file>